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A90-C5F6-48EA-96C3-02EFE5D8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FDE-5F80-468B-AAFD-7783FB81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5F7-52E6-4345-BD09-F8A98459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A0E-6104-4EDE-ACCB-D9AEE440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18AB-7F13-4119-9595-9874FE19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7E6C-7CDA-4309-B76C-AA9495C0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A719-7788-412A-BBD4-7A8257E1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893C-BBE1-4955-913E-1AC6D141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6407-4C1F-4448-8EA1-7A8BD67F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D4CC-79FF-4367-A2B2-68DAFC7C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F6DD-F5E2-4217-AA52-D0E6FF5D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FA2-A5A7-4528-B91A-613F91C2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99F2-2040-45E0-93FC-8E145887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B402-6611-4BFD-B1A8-B94DA6EE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DD02-91C8-4E13-844B-E79560B0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1853-D2A0-4013-B1FB-2E6125A6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94CC-8092-4932-A406-C49336D6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0D1-6DBE-4CAD-9292-58FC0F1F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DF8-2F21-41AF-8CA9-D0DCF99A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6AA-3740-4C0A-B794-C758C87A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2B7-ABC2-45A3-B374-EF4F7FCF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AF2-E386-47DB-B56C-BE9BC004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47B-3C91-499F-B7DB-75790E92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2AC-94F8-4A7D-8EBF-0DC6910A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7A14-F4C0-42CD-B304-1B6ADF407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6644-DF4E-4379-AC25-6B4F2F1EC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a26d18"/>
                </a:solidFill>
                <a:latin typeface="Times New Roman"/>
              </a:rPr>
              <a:t>APARIŢIA ŞI RĂSPÂNDIREA CREŞTINISMULUI</a:t>
            </a: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a26d18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a26d18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a26d18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5840" y="3736440"/>
            <a:ext cx="678024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09880" y="3166920"/>
            <a:ext cx="5924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daptat după Manualul de Istorie, clasa a V-a, Zoe Petre, 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Examenul de bacalaureat 2012</a:t>
            </a:r>
            <a:br>
              <a:rPr sz="1000"/>
            </a:b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Proba de evaluare a competenţelor digitale</a:t>
            </a:r>
            <a:r>
              <a:rPr b="1" lang="en-US" sz="1000" spc="-1" strike="noStrike">
                <a:solidFill>
                  <a:srgbClr val="a26d18"/>
                </a:solidFill>
                <a:latin typeface="Times New Roman"/>
              </a:rPr>
              <a:t> – document de lucru</a:t>
            </a:r>
            <a:br>
              <a:rPr sz="4000"/>
            </a:br>
            <a:endParaRPr b="1" lang="en-US" sz="1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49731" t="19594" r="-39775" b="15616"/>
          <a:stretch/>
        </p:blipFill>
        <p:spPr>
          <a:xfrm>
            <a:off x="6705720" y="1828800"/>
            <a:ext cx="3259080" cy="2344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Examenul de bacalaureat 2012</a:t>
            </a:r>
            <a:br>
              <a:rPr sz="1000"/>
            </a:b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Proba de evaluare a competenţelor digitale</a:t>
            </a:r>
            <a:r>
              <a:rPr b="1" lang="en-US" sz="1000" spc="-1" strike="noStrike">
                <a:solidFill>
                  <a:srgbClr val="a26d18"/>
                </a:solidFill>
                <a:latin typeface="Times New Roman"/>
              </a:rPr>
              <a:t> – document de lucru</a:t>
            </a:r>
            <a:br>
              <a:rPr sz="4000"/>
            </a:br>
            <a:endParaRPr b="1" lang="en-US" sz="1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3a3</cp:lastModifiedBy>
  <dcterms:modified xsi:type="dcterms:W3CDTF">2012-06-19T11:02:26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